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AD8-5B3A-4592-A184-564B90AC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E60-A52E-4509-B228-201C615F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D70-DF4B-4284-A799-B595CF60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226-053A-4A7E-9816-4EDA1EC6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DCF9-6BDC-4F61-8F73-33348087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0F40-CF75-43CC-9F35-5F09A1C6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B200-682E-4DED-9F55-4B6C79CF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8386-40AE-4BAC-BFFF-EB057C56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3040-773B-4C75-BB78-DE4C1E1D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92EC-D637-4C13-83C9-5E8B52F6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54DB-557B-4C96-9F84-47BF93CC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9FC-A7E9-44DA-A0BF-7ABE8E38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284E-E896-4D06-981A-FABDBFA8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0F85-D6EE-402D-A36C-D5BE00BD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7DD9-362A-42FF-B8B1-E0EA4B11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E2ED-B899-4639-90C2-1EED674D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7642-B668-472A-A9A1-138FDF4A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A6F-302D-4DFB-92F4-C3A698C0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D581-3FF4-409B-B6C9-11CFF69B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56E-7186-44A2-AE22-7C5FB992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8E8-B7FA-4DFF-8BEC-058C87B1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4CD-A207-449C-9BFF-E1A95BFA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A69-D55D-456D-985F-F8218DA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DC2-3C56-4C65-909C-8B850838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066680"/>
            <a:ext cx="8991360" cy="5562720"/>
            <a:chOff x="76320" y="1066680"/>
            <a:chExt cx="8991360" cy="5562720"/>
          </a:xfrm>
        </p:grpSpPr>
        <p:grpSp>
          <p:nvGrpSpPr>
            <p:cNvPr id="1" name=""/>
            <p:cNvGrpSpPr/>
            <p:nvPr/>
          </p:nvGrpSpPr>
          <p:grpSpPr>
            <a:xfrm>
              <a:off x="152280" y="1218960"/>
              <a:ext cx="8839440" cy="5258160"/>
              <a:chOff x="152280" y="1218960"/>
              <a:chExt cx="8839440" cy="5258160"/>
            </a:xfrm>
          </p:grpSpPr>
          <p:sp>
            <p:nvSpPr>
              <p:cNvPr id="2" name=""/>
              <p:cNvSpPr/>
              <p:nvPr/>
            </p:nvSpPr>
            <p:spPr>
              <a:xfrm>
                <a:off x="304920" y="1371600"/>
                <a:ext cx="8534160" cy="4952880"/>
              </a:xfrm>
              <a:custGeom>
                <a:avLst/>
                <a:gdLst>
                  <a:gd name="textAreaLeft" fmla="*/ 267480 w 8534160"/>
                  <a:gd name="textAreaRight" fmla="*/ 8266680 w 8534160"/>
                  <a:gd name="textAreaTop" fmla="*/ 267480 h 4952880"/>
                  <a:gd name="textAreaBottom" fmla="*/ 4685400 h 4952880"/>
                </a:gdLst>
                <a:ahLst/>
                <a:rect l="textAreaLeft" t="textAreaTop" r="textAreaRight" b="textAreaBottom"/>
                <a:pathLst>
                  <a:path w="37217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35567" y="21600"/>
                    </a:lnTo>
                    <a:arcTo wR="1650" hR="1650" stAng="10800000" swAng="5400000"/>
                    <a:lnTo>
                      <a:pt x="37217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5400000">
                <a:off x="-1866960" y="3771720"/>
                <a:ext cx="4191120" cy="152640"/>
              </a:xfrm>
              <a:custGeom>
                <a:avLst/>
                <a:gdLst>
                  <a:gd name="textAreaLeft" fmla="*/ 1242360 w 4191120"/>
                  <a:gd name="textAreaRight" fmla="*/ 2948760 w 4191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38080" y="6324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6200000">
                <a:off x="6858000" y="3733560"/>
                <a:ext cx="4114800" cy="152640"/>
              </a:xfrm>
              <a:custGeom>
                <a:avLst/>
                <a:gdLst>
                  <a:gd name="textAreaLeft" fmla="*/ 1220040 w 4114800"/>
                  <a:gd name="textAreaRight" fmla="*/ 2894760 w 411480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1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76320" y="5867280"/>
              <a:ext cx="761760" cy="762120"/>
              <a:chOff x="76320" y="5867280"/>
              <a:chExt cx="761760" cy="762120"/>
            </a:xfrm>
          </p:grpSpPr>
          <p:sp>
            <p:nvSpPr>
              <p:cNvPr id="14" name=""/>
              <p:cNvSpPr/>
              <p:nvPr/>
            </p:nvSpPr>
            <p:spPr>
              <a:xfrm>
                <a:off x="763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28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8305920" y="5867280"/>
              <a:ext cx="761760" cy="762120"/>
              <a:chOff x="8305920" y="5867280"/>
              <a:chExt cx="761760" cy="762120"/>
            </a:xfrm>
          </p:grpSpPr>
          <p:sp>
            <p:nvSpPr>
              <p:cNvPr id="17" name=""/>
              <p:cNvSpPr/>
              <p:nvPr/>
            </p:nvSpPr>
            <p:spPr>
              <a:xfrm>
                <a:off x="8305920" y="58672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34520" y="607392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914400" y="6477120"/>
            <a:ext cx="1371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2362320" y="6459120"/>
            <a:ext cx="41148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16765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DD7D-603D-435D-805F-43582C30EDD5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76320" y="1066680"/>
            <a:ext cx="8991360" cy="4496040"/>
            <a:chOff x="76320" y="1066680"/>
            <a:chExt cx="8991360" cy="4496040"/>
          </a:xfrm>
        </p:grpSpPr>
        <p:grpSp>
          <p:nvGrpSpPr>
            <p:cNvPr id="61" name=""/>
            <p:cNvGrpSpPr/>
            <p:nvPr/>
          </p:nvGrpSpPr>
          <p:grpSpPr>
            <a:xfrm>
              <a:off x="152280" y="1218960"/>
              <a:ext cx="8839440" cy="4115160"/>
              <a:chOff x="152280" y="1218960"/>
              <a:chExt cx="8839440" cy="4115160"/>
            </a:xfrm>
          </p:grpSpPr>
          <p:sp>
            <p:nvSpPr>
              <p:cNvPr id="62" name=""/>
              <p:cNvSpPr/>
              <p:nvPr/>
            </p:nvSpPr>
            <p:spPr>
              <a:xfrm>
                <a:off x="304920" y="1371600"/>
                <a:ext cx="8534160" cy="3809880"/>
              </a:xfrm>
              <a:custGeom>
                <a:avLst/>
                <a:gdLst>
                  <a:gd name="textAreaLeft" fmla="*/ 205560 w 8534160"/>
                  <a:gd name="textAreaRight" fmla="*/ 8328600 w 8534160"/>
                  <a:gd name="textAreaTop" fmla="*/ 205560 h 3809880"/>
                  <a:gd name="textAreaBottom" fmla="*/ 3604320 h 3809880"/>
                </a:gdLst>
                <a:ahLst/>
                <a:rect l="textAreaLeft" t="textAreaTop" r="textAreaRight" b="textAreaBottom"/>
                <a:pathLst>
                  <a:path w="48382" h="21600">
                    <a:moveTo>
                      <a:pt x="1650" y="0"/>
                    </a:moveTo>
                    <a:arcTo wR="1650" hR="1650" stAng="0" swAng="5400000"/>
                    <a:lnTo>
                      <a:pt x="0" y="19950"/>
                    </a:lnTo>
                    <a:arcTo wR="1650" hR="1650" stAng="16200000" swAng="5400000"/>
                    <a:lnTo>
                      <a:pt x="46732" y="21600"/>
                    </a:lnTo>
                    <a:arcTo wR="1650" hR="1650" stAng="10800000" swAng="5400000"/>
                    <a:lnTo>
                      <a:pt x="48382" y="1650"/>
                    </a:lnTo>
                    <a:arcTo wR="1650" hR="1650" stAng="5400000" swAng="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5400000">
                <a:off x="-1333440" y="323820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0800000">
                <a:off x="762120" y="1218600"/>
                <a:ext cx="7619760" cy="152280"/>
              </a:xfrm>
              <a:custGeom>
                <a:avLst/>
                <a:gdLst>
                  <a:gd name="textAreaLeft" fmla="*/ 2259000 w 7619760"/>
                  <a:gd name="textAreaRight" fmla="*/ 5360760 w 7619760"/>
                  <a:gd name="textAreaTop" fmla="*/ 45000 h 152280"/>
                  <a:gd name="textAreaBottom" fmla="*/ 10728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38080" y="5181480"/>
                <a:ext cx="7620120" cy="152640"/>
              </a:xfrm>
              <a:custGeom>
                <a:avLst/>
                <a:gdLst>
                  <a:gd name="textAreaLeft" fmla="*/ 2259000 w 7620120"/>
                  <a:gd name="textAreaRight" fmla="*/ 5361120 w 762012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7353000" y="3237840"/>
                <a:ext cx="3124440" cy="152640"/>
              </a:xfrm>
              <a:custGeom>
                <a:avLst/>
                <a:gdLst>
                  <a:gd name="textAreaLeft" fmla="*/ 926280 w 3124440"/>
                  <a:gd name="textAreaRight" fmla="*/ 2198160 w 3124440"/>
                  <a:gd name="textAreaTop" fmla="*/ 45360 h 152640"/>
                  <a:gd name="textAreaBottom" fmla="*/ 10728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3223" y="21600"/>
                    </a:lnTo>
                    <a:lnTo>
                      <a:pt x="8377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6320" y="1066680"/>
              <a:ext cx="761760" cy="762120"/>
              <a:chOff x="76320" y="1066680"/>
              <a:chExt cx="761760" cy="762120"/>
            </a:xfrm>
          </p:grpSpPr>
          <p:sp>
            <p:nvSpPr>
              <p:cNvPr id="68" name=""/>
              <p:cNvSpPr/>
              <p:nvPr/>
            </p:nvSpPr>
            <p:spPr>
              <a:xfrm>
                <a:off x="763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22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1040" dir="2520846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8305920" y="1066680"/>
              <a:ext cx="761760" cy="762120"/>
              <a:chOff x="8305920" y="1066680"/>
              <a:chExt cx="761760" cy="762120"/>
            </a:xfrm>
          </p:grpSpPr>
          <p:sp>
            <p:nvSpPr>
              <p:cNvPr id="71" name=""/>
              <p:cNvSpPr/>
              <p:nvPr/>
            </p:nvSpPr>
            <p:spPr>
              <a:xfrm>
                <a:off x="8305920" y="106668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545680" y="1143000"/>
                <a:ext cx="446040" cy="47952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15171" dir="5776851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6320" y="4800600"/>
              <a:ext cx="761760" cy="762120"/>
              <a:chOff x="76320" y="4800600"/>
              <a:chExt cx="761760" cy="762120"/>
            </a:xfrm>
          </p:grpSpPr>
          <p:sp>
            <p:nvSpPr>
              <p:cNvPr id="74" name=""/>
              <p:cNvSpPr/>
              <p:nvPr/>
            </p:nvSpPr>
            <p:spPr>
              <a:xfrm>
                <a:off x="7632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fc0000"/>
                  </a:gs>
                  <a:gs pos="100000">
                    <a:srgbClr val="000000"/>
                  </a:gs>
                </a:gsLst>
                <a:lin ang="81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228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27703" dir="339742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8229600" y="4800600"/>
              <a:ext cx="761760" cy="762120"/>
              <a:chOff x="8229600" y="4800600"/>
              <a:chExt cx="761760" cy="762120"/>
            </a:xfrm>
          </p:grpSpPr>
          <p:sp>
            <p:nvSpPr>
              <p:cNvPr id="77" name=""/>
              <p:cNvSpPr/>
              <p:nvPr/>
            </p:nvSpPr>
            <p:spPr>
              <a:xfrm>
                <a:off x="8229600" y="48006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c0000"/>
                  </a:gs>
                </a:gsLst>
                <a:lin ang="13500000"/>
              </a:gradFill>
              <a:ln w="9360">
                <a:solidFill>
                  <a:srgbClr val="808080"/>
                </a:solidFill>
                <a:miter/>
              </a:ln>
              <a:effectLst>
                <a:outerShdw dist="71785" dir="135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458200" y="5007240"/>
                <a:ext cx="446040" cy="479160"/>
              </a:xfrm>
              <a:prstGeom prst="ellipse">
                <a:avLst/>
              </a:prstGeom>
              <a:solidFill>
                <a:srgbClr val="fc0000"/>
              </a:solidFill>
              <a:ln w="0">
                <a:noFill/>
              </a:ln>
              <a:effectLst>
                <a:outerShdw dist="17819" dir="81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15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438280" y="6248160"/>
            <a:ext cx="4267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0C3A-B3B0-4BFE-BBC9-700597E64D84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ciu.org/~spjvweb/questbrai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oughtful research: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ving beyond the topic!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74560" y="304920"/>
            <a:ext cx="8188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ll research is inquiry-driven, based on good ques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erfect bibliographic forma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efense of your source choices in annota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uality, balanced sources. No research holes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ariety of access tool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—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earch engines, subject directories, databases, book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riginal work, your own voice. No plagiarism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36680" indent="-436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0720" y="228600"/>
            <a:ext cx="68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What your teachers expect:</a:t>
            </a:r>
            <a:endParaRPr b="0" lang="en-US" sz="4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0"/>
            <a:ext cx="811836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valuate your sources!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2120" y="1752480"/>
            <a:ext cx="8118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re your sources from a variety of media format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ave you considered the credibility, accuracy, currency, appropriateness, and relevance of all source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ave you pursued sources energetically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ave you followed documentation guideline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232240" y="6402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Have you used print?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002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-fiction books are filtered for quality!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-fiction books are written not only by subject specialists, they are written by authors who know the needs of their audience.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may take a year or two of research and editing for an author to publish a book. Many web pages are “thrown up” in a very short time period.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ably 90% of this library’s collection is NOT on the Web.  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ay need to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get u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. It’s not all on the Web.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2209680"/>
            <a:ext cx="2133360" cy="1067040"/>
          </a:xfrm>
          <a:custGeom>
            <a:avLst/>
            <a:gdLst>
              <a:gd name="textAreaLeft" fmla="*/ 266400 w 2133360"/>
              <a:gd name="textAreaRight" fmla="*/ 1866960 w 213336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opic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895480"/>
            <a:ext cx="2057400" cy="91440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question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733920"/>
            <a:ext cx="1752480" cy="10666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entative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hesi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4419720"/>
            <a:ext cx="1752480" cy="10666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hesi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Verdana"/>
              </a:rPr>
              <a:t>Process for developing the thoughtful thesi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hy, a thesis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655640"/>
            <a:ext cx="75438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thesis statement declares what you intend to prov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thesis gives your work focus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 good thesis statement makes the difference between a thoughtful research project and a simple retelling of facts. 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t makes the work worth doing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I have a thesis. Where do I put it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thesis statement is typically located at the end of your opening paragraph. (The opening paragraph serves to set the context for the thesis.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How do I know if I have a solid tentative thesis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158112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hat does a thesis look like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523880"/>
            <a:ext cx="87631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imple equation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05a"/>
                </a:solidFill>
                <a:latin typeface="Arial"/>
              </a:rPr>
              <a:t>Specific top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5918bb"/>
                </a:solidFill>
                <a:latin typeface="Arial"/>
              </a:rPr>
              <a:t>Attitude/Angle/Arg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hesi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 Ts:  Topic + ’Tude = Thesis)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What you plan to argue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1822cd"/>
                </a:solidFill>
                <a:latin typeface="Arial"/>
              </a:rPr>
              <a:t>How you plan to argue it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2f8b20"/>
                </a:solidFill>
                <a:latin typeface="Arial"/>
              </a:rPr>
              <a:t>Your thesis</a:t>
            </a:r>
            <a:r>
              <a:rPr b="1" lang="en-US" sz="1600" spc="-1" strike="noStrike">
                <a:solidFill>
                  <a:srgbClr val="f63f1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3962520"/>
            <a:ext cx="723888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Attributes of a good thesis: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ontestabl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—proposes an argument with which people could reasonably disagree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Provocativ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—takes a stand and justifies the discussion you will present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overabl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—could be adequately covered in the format of the project assigned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Specific and focuse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—proves a point without discussing “everything in the world about …”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Provabl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—asserts your own conclusion based on solid evidenc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1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Don’t rush your thesis!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 good tentative thesis will help you focus your search for information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ou must do a lot of background reading before you know enough about a subject to identify the key or essential questions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ou may not know how you stand on an issue until you have examined the evidence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You will likely begin your research with a working, preliminary or tentative thesis which you will continue to refine until you are certain of where the evidence leads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o, what’s the big deal about research?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3074760" cy="325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1219320"/>
            <a:ext cx="4419720" cy="2209680"/>
          </a:xfrm>
          <a:prstGeom prst="cloudCallout">
            <a:avLst>
              <a:gd name="adj1" fmla="val 47092"/>
              <a:gd name="adj2" fmla="val 70907"/>
            </a:avLst>
          </a:prstGeom>
          <a:solidFill>
            <a:srgbClr val="ff898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harcoal"/>
              </a:rPr>
              <a:t>It’s jus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harcoal"/>
              </a:rPr>
              <a:t>another project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Be flexible!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e evidence may lead you to a conclusion you didn't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think you’d reach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t is perfectly okay to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hange your thesis!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How will you find a thesis?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s you read look for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esting contrasts or comparisons or patterns emerging in the inform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omething about the topic that surprises you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deas that make you wonder why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iorities you can weigh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omething an “expert” says that makes you respond, “No way! That can’t be right!” or “Yes, absolutely. I agree!”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1219320"/>
            <a:ext cx="7923240" cy="50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oes the thesis  inspire a reasonable reader to ask,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“How?” or “Why?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Would a reasonable reader NOT respond with “Duh!” or “So what?” or “Gee, no kidding!” or “Who cares?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oes the thesis avoid general phrasing and/or sweeping words such as “all” or “none” or “every”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Does the thesis lead the reader toward the topic sentences (the subtopics needed to prove the thesis)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n the thesis be adequately developed in the required length of the paper or project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569880" indent="-395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If you cannot answer “YES” to these questions, what changes 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must you make in order for your thesis to pass these tests?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3808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ry these five tests on your own tentative thesi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" dur="1" fill="hold"/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re these good thesis statements? (Use the five tests to decide.)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41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rorism should not happe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causes of the Civil War were economic, social, and political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.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The Simpson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represents the greatest animated show in the history of television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The Simpson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treats the issues of ethnicity, family dynamics, and social issues effectively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Often dismissed because it is animated,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The Simpsons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treats the issue of ethnicity more powerfully than did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critically praised </a:t>
            </a:r>
            <a:r>
              <a:rPr b="0" i="1" lang="en-US" sz="2400" spc="-1" strike="noStrike">
                <a:solidFill>
                  <a:srgbClr val="003399"/>
                </a:solidFill>
                <a:latin typeface="Arial"/>
              </a:rPr>
              <a:t>All In The Famil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441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Now you are ready!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Go forth and do powerful, thoughtful research!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66320" y="35049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member, you are not alone. Check frequently with your teacher-librarian and classroom teacher for guidance!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Research is a real-life skill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 projects are training grounds for adult problem-solving and decision-mak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car should I buy and how much should I pa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candidate will best represent my interests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an I convince my boss to accept my proposal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should we work together to rebuild Iraq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o do I believ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No more reports!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he . . 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unt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eside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port has already been done (very well) by any number of encyclopedias. 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Why should we ask you to waste your time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0" y="1752480"/>
            <a:ext cx="866880" cy="1125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1098720" cy="1334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638680" y="2133720"/>
            <a:ext cx="2362320" cy="14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Thoughtful research asks you to: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aly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Jud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pport or reject or critiqu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ioritiz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valua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ba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clude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commen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Justif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rgu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pos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v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We are asking for . . . </a:t>
            </a:r>
            <a:br>
              <a:rPr sz="4400"/>
            </a:b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more meaningful, and more interesting research!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429000" y="4038480"/>
            <a:ext cx="24382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41320" y="2895480"/>
            <a:ext cx="76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What exactly do we expect?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33cc"/>
                </a:solidFill>
                <a:latin typeface="Arial"/>
              </a:rPr>
              <a:t>When you search:</a:t>
            </a:r>
            <a:endParaRPr b="0" lang="en-US" sz="45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600200"/>
            <a:ext cx="807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Three tips: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26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Focus—what is your mission? your question? Be specific!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26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Strategize—select search tools and search terms with precision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26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Refine—attempt to improve your search </a:t>
            </a:r>
            <a:br>
              <a:rPr sz="2900"/>
            </a:b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results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26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99"/>
                </a:solidFill>
                <a:latin typeface="Arial"/>
              </a:rPr>
              <a:t>Evaluate—which results to visit, which documents to use? Did I do good work?</a:t>
            </a:r>
            <a:endParaRPr b="0" lang="en-US" sz="29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38088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tart with good questions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 “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Which one”</a:t>
            </a:r>
            <a:endParaRPr b="0" lang="en-US" sz="3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 “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How”</a:t>
            </a:r>
            <a:endParaRPr b="0" lang="en-US" sz="3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 “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What if” </a:t>
            </a:r>
            <a:endParaRPr b="0" lang="en-US" sz="3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 “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Should”  </a:t>
            </a:r>
            <a:endParaRPr b="0" lang="en-US" sz="3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 “</a:t>
            </a:r>
            <a:r>
              <a:rPr b="0" lang="en-US" sz="3400" spc="-1" strike="noStrike">
                <a:solidFill>
                  <a:srgbClr val="003399"/>
                </a:solidFill>
                <a:latin typeface="Arial"/>
                <a:ea typeface="Times New Roman"/>
              </a:rPr>
              <a:t>Why”</a:t>
            </a:r>
            <a:endParaRPr b="0" lang="en-US" sz="3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7144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714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Brainstormer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mciu.org/~spjvweb/questbrain.html</a:t>
            </a:r>
            <a:endParaRPr b="0" lang="en-US" sz="21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8:28:07Z</dcterms:created>
  <dc:creator>joyce valenza</dc:creator>
  <dc:description/>
  <dc:language>en-US</dc:language>
  <cp:lastModifiedBy>Technology Services</cp:lastModifiedBy>
  <cp:lastPrinted>2004-05-07T19:24:42Z</cp:lastPrinted>
  <dcterms:modified xsi:type="dcterms:W3CDTF">2008-01-08T18:51:28Z</dcterms:modified>
  <cp:revision>34</cp:revision>
  <dc:subject/>
  <dc:title>Thoughtful research:</dc:title>
</cp:coreProperties>
</file>